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595-6184-4AD9-B00F-A76245FD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559-D991-43FB-9D2E-334C998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841-6359-474E-AC63-0AD747B4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99F-4654-455D-8D0E-B924B67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040-8C28-44ED-9678-79F34EF4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01B-A8C4-4957-AF88-C83978D8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1BF-BA1E-4A5D-BC4E-E3A28EA3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363-C956-4B17-BC8B-784F26DE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80D-34B9-45EE-95A2-1EF45938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3D9-F26E-416F-BB47-DBE6092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6EA-232E-4A4F-9E5B-449C4A2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CEA-2B51-490B-AD03-B3ABDDA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A92-9C24-4C51-B577-BA9FD4C68F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cboe.net/Teachers/lloyd_erica/images/23C0F00422124086A3A8A374A610423B.gif&amp;imgrefurl=http://www.ccboe.net/Teachers/lloyd_erica/home.html&amp;usg=__2LYEmJ5eFk-uzAjGLqn1RW7JU3o=&amp;h=544&amp;w=500&amp;sz=10&amp;hl=en&amp;start=2&amp;sig2=XWBhvV97P4qTy8y6Gji6kg&amp;itbs=1&amp;tbnid=Usa0gIlrfRYTOM:&amp;tbnh=133&amp;tbnw=122&amp;prev=/images%3Fq%3Dfield%2Btrip%26hl%3Den%26gbv%3D2%26tbs%3Disch:1&amp;ei=7fA9TL3cD4Kclgey1PH3BQ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beijingguide.com/forbidden_city/forbidden_city_virtual_tour.html" TargetMode="External"/><Relationship Id="rId2" Type="http://schemas.openxmlformats.org/officeDocument/2006/relationships/hyperlink" Target="http://china.mrdonn.org/silkroad.html" TargetMode="External"/><Relationship Id="rId3" Type="http://schemas.openxmlformats.org/officeDocument/2006/relationships/hyperlink" Target="http://china.mrdonn.org/greatwall.html" TargetMode="External"/><Relationship Id="rId4" Type="http://schemas.openxmlformats.org/officeDocument/2006/relationships/hyperlink" Target="http://www.bbc.co.uk/ahistoryoftheworld/explorerflash/?tag=51&amp;tagname=Ancient+and+Imperial+China&amp;" TargetMode="External"/><Relationship Id="rId5" Type="http://schemas.openxmlformats.org/officeDocument/2006/relationships/slide" Target="slide1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sopotamia.co.uk/menu.html" TargetMode="External"/><Relationship Id="rId2" Type="http://schemas.openxmlformats.org/officeDocument/2006/relationships/hyperlink" Target="http://mesopotamia.mrdonn.org/index.html" TargetMode="External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cientegypt.co.uk/menu.html" TargetMode="External"/><Relationship Id="rId2" Type="http://schemas.openxmlformats.org/officeDocument/2006/relationships/hyperlink" Target="http://egypt.mrdonn.org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cientindia.co.uk/menu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cientchina.co.uk/menu.html" TargetMode="External"/><Relationship Id="rId2" Type="http://schemas.openxmlformats.org/officeDocument/2006/relationships/hyperlink" Target="http://china.mrdonn.org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10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bc.co.uk/schools/primaryhistory/worldhistory/royal_game_of_ur" TargetMode="External"/><Relationship Id="rId2" Type="http://schemas.openxmlformats.org/officeDocument/2006/relationships/hyperlink" Target="http://www.socialstudiesforkids.com/wwww/world/urukdef.htm" TargetMode="External"/><Relationship Id="rId3" Type="http://schemas.openxmlformats.org/officeDocument/2006/relationships/hyperlink" Target="http://mesopotamia.mrdonn.org/babylon.html" TargetMode="External"/><Relationship Id="rId4" Type="http://schemas.openxmlformats.org/officeDocument/2006/relationships/hyperlink" Target="http://7wonders.mrdonn.org/gardens.html" TargetMode="External"/><Relationship Id="rId5" Type="http://schemas.openxmlformats.org/officeDocument/2006/relationships/hyperlink" Target="http://mesopotamia.mrdonn.org/hammurabi.html" TargetMode="External"/><Relationship Id="rId6" Type="http://schemas.openxmlformats.org/officeDocument/2006/relationships/hyperlink" Target="http://www.bbc.co.uk/ahistoryoftheworld/explorerflash/?tag=49&amp;tagname=Ancient+Middle+East&amp;" TargetMode="Externa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bc.co.uk/schools/primaryhistory/worldhistory/ramesses" TargetMode="External"/><Relationship Id="rId2" Type="http://schemas.openxmlformats.org/officeDocument/2006/relationships/hyperlink" Target="http://www.bbc.co.uk/schools/primaryhistory/worldhistory/rosetta_stone" TargetMode="External"/><Relationship Id="rId3" Type="http://schemas.openxmlformats.org/officeDocument/2006/relationships/hyperlink" Target="http://egypt.mrdonn.org/sphinx.html" TargetMode="External"/><Relationship Id="rId4" Type="http://schemas.openxmlformats.org/officeDocument/2006/relationships/hyperlink" Target="http://www.bbc.co.uk/ahistoryoftheworld/explorerflash/?tag=46&amp;tagname=Ancient+Egypt&amp;" TargetMode="External"/><Relationship Id="rId5" Type="http://schemas.openxmlformats.org/officeDocument/2006/relationships/slide" Target="slide1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bc.co.uk/schools/indusvalley" TargetMode="External"/><Relationship Id="rId2" Type="http://schemas.openxmlformats.org/officeDocument/2006/relationships/hyperlink" Target="http://www.bbc.co.uk/schools/indusvalley" TargetMode="External"/><Relationship Id="rId3" Type="http://schemas.openxmlformats.org/officeDocument/2006/relationships/hyperlink" Target="http://www.bbc.co.uk/schools/indusvalley" TargetMode="External"/><Relationship Id="rId4" Type="http://schemas.openxmlformats.org/officeDocument/2006/relationships/hyperlink" Target="http://www.bbc.co.uk/ahistoryoftheworld/explorerflash/?tag=50&amp;tagname=Ancient+South+Asia&amp;" TargetMode="External"/><Relationship Id="rId5" Type="http://schemas.openxmlformats.org/officeDocument/2006/relationships/slide" Target="slide1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iver Civilization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tual Field Tr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0" y="513396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46 0.1529 C -0.12031 0.14134 -0.14219 0.10479 -0.16997 0.07911 C -0.19167 0.05922 -0.21806 0.05112 -0.23941 0.03053 C -0.24393 0.02614 -0.2441 0.02336 -0.24774 0.01804 C -0.25799 0.00324 -0.26858 -0.01041 -0.27952 -0.02429 C -0.28768 -0.0347 -0.29861 -0.05274 -0.31007 -0.05714 C -0.32344 -0.07217 -0.34115 -0.08837 -0.35833 -0.09322 C -0.37761 -0.10618 -0.39879 -0.11497 -0.41962 -0.12306 C -0.43264 -0.13532 -0.45347 -0.14435 -0.4691 -0.14805 C -0.50261 -0.16863 -0.54011 -0.17974 -0.57708 -0.18274 C -0.6467 -0.18113 -0.7158 -0.18413 -0.78542 -0.18899 C -0.82153 -0.195 -0.85695 -0.19847 -0.89236 -0.21097 C -0.9349 -0.226 -0.89653 -0.21097 -0.93125 -0.22646 C -0.9375 -0.22924 -0.95 -0.23433 -0.95 -0.2341 C -0.96146 -0.24705 -0.97535 -0.25515 -0.98646 -0.2688 C -1.0099 -0.29748 -1.02292 -0.33472 -1.03594 -0.37243 C -1.0408 -0.38654 -1.04566 -0.39787 -1.04879 -0.41314 C -1.04722 -0.42725 -1.04757 -0.44206 -1.0441 -0.45547 C -1.03906 -0.47537 -1.02465 -0.48739 -1.01233 -0.4978 C -1.00556 -0.50336 -1.00365 -0.50312 -0.99583 -0.50706 C -0.97101 -0.51978 -0.94948 -0.52556 -0.92292 -0.52741 C -0.77413 -0.52672 -0.63004 -0.52926 -0.48299 -0.51492 C -0.45625 -0.50891 -0.42882 -0.5096 -0.40174 -0.50706 C -0.38733 -0.50821 -0.37274 -0.50844 -0.35833 -0.51029 C -0.35278 -0.51099 -0.34722 -0.51307 -0.34184 -0.51492 C -0.33785 -0.51631 -0.33004 -0.51955 -0.33004 -0.51932 C -0.32604 -0.52996 -0.31927 -0.5369 -0.31597 -0.54777 C -0.31458 -0.5524 -0.31233 -0.56188 -0.31233 -0.56165 C -0.31372 -0.59079 -0.31406 -0.61254 -0.31823 -0.63891 C -0.31945 -0.64724 -0.32309 -0.65441 -0.32535 -0.66227 C -0.33889 -0.71085 -0.37934 -0.73676 -0.41597 -0.74393 C -0.42952 -0.74971 -0.44306 -0.75203 -0.45712 -0.7548 C -0.46858 -0.75943 -0.48056 -0.76058 -0.49254 -0.76267 C -0.50261 -0.7622 -0.51285 -0.76197 -0.52292 -0.76105 C -0.53125 -0.76035 -0.5408 -0.75457 -0.54879 -0.75156 C -0.56441 -0.74601 -0.58056 -0.74162 -0.59583 -0.73444 C -0.59809 -0.72565 -0.59774 -0.72195 -0.60295 -0.7171 C -0.60452 -0.71154 -0.60417 -0.71409 -0.60417 -0.70923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llage and Life: Chi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The Forbidden C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make sure you take Forbidden City 360 degree virtual tou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Silk R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Great Wa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culture through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vel Journ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visited your civilization it is time to share your experience.  You will design a final product as a “show and tell” of your field trip.  Make sure you reference the rubric from the Moodle to ensure that you get everything that you ne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4178160"/>
            <a:ext cx="3114720" cy="25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530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uc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ich area did you choos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Opti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Op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Op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Optio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9ea8"/>
                </a:solidFill>
                <a:latin typeface="Arial"/>
              </a:rPr>
              <a:t>Congratulations!  You chose Mesopotami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learn a little something about 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help fill in the info on your sh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o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 more info in a differen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step is to learn about some major cities and culture. 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c6ff"/>
                </a:solidFill>
                <a:latin typeface="Arial"/>
              </a:rPr>
              <a:t>Congratulations! You chose Egypt!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s to learn a little something abou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help fill in the info on your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o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more info in a differen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step is to learn about some major cities and culture.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7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7960"/>
                </a:solidFill>
                <a:latin typeface="Arial"/>
              </a:rPr>
              <a:t>Congratulations!  You chose the Indus Valle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learn a little something about the Indus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help fill in the info on your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re for more info in a different 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step is to learn about some major cities and culture.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Congratulations!  You chose Chin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learn a little something about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 help fill in the info on your sh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o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 more info in a differen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step is to learn about some major cities and culture. The next slide contains additional sites to help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Village and Life: Mesopotam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Ur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Baby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Hanging Garde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Hammurabi’s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culture through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62520" y="5791320"/>
            <a:ext cx="99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llage and Life: Egyp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Rosetta S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Sphin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culture through </a:t>
            </a: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14800" y="5867280"/>
            <a:ext cx="99072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Village and Life: Ind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some basic background and points of interest for this civilization.  You may look at geography, man-made objects, how the buildings were built…anything you can find.  I have given you more links to sites with information to help you fill in your knowledge about this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ap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Mohenjo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D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 culture through 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5943600"/>
            <a:ext cx="990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50:59Z</dcterms:created>
  <dc:creator>katie.williams</dc:creator>
  <dc:description/>
  <dc:language>en-US</dc:language>
  <cp:lastModifiedBy>katie.williams</cp:lastModifiedBy>
  <dcterms:modified xsi:type="dcterms:W3CDTF">2010-08-10T02:47:49Z</dcterms:modified>
  <cp:revision>15</cp:revision>
  <dc:subject/>
  <dc:title>River Civilizations </dc:title>
</cp:coreProperties>
</file>